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5EDC-8B11-44E8-9D63-CEDA208167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9FE-F847-466A-A16F-A5A72B17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397-7F09-4B00-AD31-9BC24D89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059-F622-4025-9FEE-DDEBD893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16B-201F-43B3-8220-92F1AFBE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9A7F-B368-4132-A9D5-14EC215E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047A-E36E-4B82-82B5-5D86E76B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30BC-A4CD-410E-97C6-333FB13D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750C-A2F7-4A0A-97A4-FF3F8620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C80B-057E-436F-892E-B7ED4094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249F-A5B8-4CB0-8382-5CE454FD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9994-AA03-4155-BF20-BE191862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1BB-CA28-40FD-89EC-6E31EE0C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6B3E-0E2B-4AB8-B2D9-29A3653B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722E-6B0A-4515-82F9-BA17A315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4C3E-1CE4-4B06-B516-D8F874F4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A157-37E7-4EC3-9D24-90E4602E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3BD2-96D3-4A6F-BBAE-A5313C4A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245-2983-417A-AA9B-FC2842D8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B90-AE58-4860-97CB-E7D8D35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62F-B660-4725-B14D-257135D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5AE-06F3-40D3-9C88-A0A9B738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162-DEC5-47BD-9A78-8FDBD759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34D-9A1A-4C36-9EF9-5D1737A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9A8-1997-4F7D-A943-5189BB90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8201-A7DE-4C3B-B1B8-30E868689B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8EA9-5AD7-4573-856F-CED2BC4FDFA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1660680" y="3581280"/>
            <a:ext cx="576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dividualized Education Plan in relationship 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013360" y="4952880"/>
            <a:ext cx="33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amended by Congress in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.L. 108-446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360" y="50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451640" y="142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69960" y="96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Picture 17" descr="On Crutches"/>
          <p:cNvPicPr/>
          <p:nvPr/>
        </p:nvPicPr>
        <p:blipFill>
          <a:blip r:embed="rId1"/>
          <a:stretch/>
        </p:blipFill>
        <p:spPr>
          <a:xfrm>
            <a:off x="3886200" y="4724280"/>
            <a:ext cx="1039680" cy="18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7604280" y="111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20" descr="Wheelchair Access"/>
          <p:cNvPicPr/>
          <p:nvPr/>
        </p:nvPicPr>
        <p:blipFill>
          <a:blip r:embed="rId2"/>
          <a:stretch/>
        </p:blipFill>
        <p:spPr>
          <a:xfrm>
            <a:off x="3733920" y="1676520"/>
            <a:ext cx="1746000" cy="1825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2"/>
          <p:cNvSpPr/>
          <p:nvPr/>
        </p:nvSpPr>
        <p:spPr>
          <a:xfrm>
            <a:off x="2660760" y="152280"/>
            <a:ext cx="38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657600" y="3962520"/>
            <a:ext cx="121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-135000" y="507852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27" descr="ABC Books"/>
          <p:cNvPicPr/>
          <p:nvPr/>
        </p:nvPicPr>
        <p:blipFill>
          <a:blip r:embed="rId3"/>
          <a:stretch/>
        </p:blipFill>
        <p:spPr>
          <a:xfrm>
            <a:off x="228600" y="228600"/>
            <a:ext cx="232884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Notes Background 2"/>
          <p:cNvPicPr/>
          <p:nvPr/>
        </p:nvPicPr>
        <p:blipFill>
          <a:blip r:embed="rId4"/>
          <a:stretch/>
        </p:blipFill>
        <p:spPr>
          <a:xfrm>
            <a:off x="6553080" y="30492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Reviewing and Revising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4" descr="Boys Studying"/>
          <p:cNvPicPr/>
          <p:nvPr/>
        </p:nvPicPr>
        <p:blipFill>
          <a:blip r:embed="rId1"/>
          <a:stretch/>
        </p:blipFill>
        <p:spPr>
          <a:xfrm>
            <a:off x="5353200" y="2514600"/>
            <a:ext cx="3333600" cy="338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Reviewing and Revising IEP Cont.</a:t>
            </a:r>
            <a:br>
              <a:rPr sz="4000"/>
            </a:br>
            <a:r>
              <a:rPr b="1" lang="en-US" sz="4000" spc="-1" strike="noStrike">
                <a:solidFill>
                  <a:srgbClr val="ff66ff"/>
                </a:solidFill>
                <a:latin typeface="Garamond"/>
              </a:rPr>
              <a:t>Amending the IEP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The parent and school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gree to ame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r modify the IEP, they may revise the IEP by agreement without convening an IEP meeting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0" name="Picture 4" descr="Boy Reading"/>
          <p:cNvPicPr/>
          <p:nvPr/>
        </p:nvPicPr>
        <p:blipFill>
          <a:blip r:embed="rId1"/>
          <a:stretch/>
        </p:blipFill>
        <p:spPr>
          <a:xfrm>
            <a:off x="1219320" y="4038480"/>
            <a:ext cx="144756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0" y="1295280"/>
            <a:ext cx="161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1600" y="1649520"/>
            <a:ext cx="787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Picture 6" descr="Books - Law 1"/>
          <p:cNvPicPr/>
          <p:nvPr/>
        </p:nvPicPr>
        <p:blipFill>
          <a:blip r:embed="rId1"/>
          <a:stretch/>
        </p:blipFill>
        <p:spPr>
          <a:xfrm>
            <a:off x="7010280" y="4950000"/>
            <a:ext cx="2133720" cy="190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IEP Amended 2004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Special Education law mandated chan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Picture 11" descr="100_0366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3762360" y="62215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6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784760" y="5562720"/>
            <a:ext cx="322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8" descr="Accounting 1"/>
          <p:cNvPicPr/>
          <p:nvPr/>
        </p:nvPicPr>
        <p:blipFill>
          <a:blip r:embed="rId1"/>
          <a:stretch/>
        </p:blipFill>
        <p:spPr>
          <a:xfrm>
            <a:off x="4648320" y="2233440"/>
            <a:ext cx="4038480" cy="322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shall be provided on an individualized bas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4" descr="At the Chalkboard 1"/>
          <p:cNvPicPr/>
          <p:nvPr/>
        </p:nvPicPr>
        <p:blipFill>
          <a:blip r:embed="rId1"/>
          <a:stretch/>
        </p:blipFill>
        <p:spPr>
          <a:xfrm>
            <a:off x="4648320" y="2252520"/>
            <a:ext cx="4038480" cy="3191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5486400" y="25639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15120" y="62974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4" descr="Drawing Straight Edge"/>
          <p:cNvPicPr/>
          <p:nvPr/>
        </p:nvPicPr>
        <p:blipFill>
          <a:blip r:embed="rId1"/>
          <a:stretch/>
        </p:blipFill>
        <p:spPr>
          <a:xfrm>
            <a:off x="6324480" y="1066680"/>
            <a:ext cx="2667240" cy="3865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5029200" y="6450120"/>
            <a:ext cx="51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Garamond"/>
              </a:rPr>
              <a:t>Considerations in Developing the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4" descr="Boy at Computer"/>
          <p:cNvPicPr/>
          <p:nvPr/>
        </p:nvPicPr>
        <p:blipFill>
          <a:blip r:embed="rId1"/>
          <a:stretch/>
        </p:blipFill>
        <p:spPr>
          <a:xfrm>
            <a:off x="4648320" y="2544840"/>
            <a:ext cx="4038480" cy="2606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876920" y="6248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Garamond"/>
              </a:rPr>
              <a:t>IEP in the Classroo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4" descr="100_0361"/>
          <p:cNvPicPr/>
          <p:nvPr/>
        </p:nvPicPr>
        <p:blipFill>
          <a:blip r:embed="rId1"/>
          <a:stretch/>
        </p:blipFill>
        <p:spPr>
          <a:xfrm>
            <a:off x="457200" y="1523880"/>
            <a:ext cx="3225960" cy="2419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3383640" y="1459080"/>
            <a:ext cx="61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o include accommoda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65040" y="3962520"/>
            <a:ext cx="8550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The law Section 1414(e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cessary to hav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4" descr="Girl Studying 4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3627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1:57:05Z</dcterms:created>
  <dc:creator>kathy</dc:creator>
  <dc:description/>
  <dc:language>en-US</dc:language>
  <cp:lastModifiedBy>RomaK</cp:lastModifiedBy>
  <dcterms:modified xsi:type="dcterms:W3CDTF">2015-09-02T09:48:28Z</dcterms:modified>
  <cp:revision>28</cp:revision>
  <dc:subject/>
  <dc:title>IEP individualized Educational Plan</dc:title>
</cp:coreProperties>
</file>